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FF7-90F2-408A-9961-9E0C4BBB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EAC-A31F-40DE-AAE0-5B849D1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424-726F-49F0-A56F-9DAE53D3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B5E-0C67-4DE8-AE2F-4D8E826D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EEE-6395-4A4C-8E97-8F74BE3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582-9C9A-4422-9B3D-6067D13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6C1-E06B-44C8-9461-D16BE15D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84C-6306-4B51-B50A-91134487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C92-382D-4284-BD84-5B9EB8E3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2F5-517C-4601-A9AB-57217F6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B13-9FAE-4A7F-A8F2-CC6DE3F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60D-0255-455C-AA05-654710E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6F59-FC6D-478D-9641-BB7100C34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 – to arran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y systema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00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video store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clothes 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phone book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sports stad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deleev: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tist to creat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system which organized all of the known elements into rows in order of increasing M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 similar properties we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the same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ble Mendeleev created was no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lete (gaps).  The spaces left were of elements that had not been discovered yet.  He predicted they would be in the future (he was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iodic 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lassifies/organizes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ows us t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are one element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d by increasi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—different than Mende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 of protons =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ways to read (open to 133-1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eriods – row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left to right) =increasing atomic # from L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lumn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up and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05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in each/group famil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ve simila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819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roperties of elements repeat i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predictable way when atomic numbers are used to arrange elements into groups/families = Periodic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Group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sometimes also called famil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the similar properti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groups/fami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ll have the same outer electron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lement on the periodic tab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s represented by a 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box tells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286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number of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048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member this can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429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ymbol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am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f all the elements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971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5:27:57Z</dcterms:created>
  <dc:creator>Farwell Area Schools</dc:creator>
  <dc:description/>
  <dc:language>en-US</dc:language>
  <cp:lastModifiedBy>Farwell Area Schools</cp:lastModifiedBy>
  <dcterms:modified xsi:type="dcterms:W3CDTF">2008-09-16T19:02:12Z</dcterms:modified>
  <cp:revision>17</cp:revision>
  <dc:subject/>
  <dc:title>Note Guide 2-1  </dc:title>
</cp:coreProperties>
</file>